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B8A-A937-4C29-B45C-E1ECD959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6C3-EF00-4D19-BE9D-F4DA864B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93075-B4EF-4D9F-B0D5-EC2CEED8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64BE6-52CA-4E7B-BE22-2ACCC7A0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0A955-0BF5-47CB-A820-C70385CB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ABD27-26FB-4120-BB99-3A2774ED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DE45D-B782-41E1-B4FB-1F1EFEF3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40216-68F1-4D15-9FEB-A25AE581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AAB5F-9C50-46AD-965A-F953E78E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AAB3A-B6A3-4980-A045-25A45614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13E7E-5859-41AF-8DC3-3E31C7EA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12BF9-C075-40F1-B070-20F5304C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65C-1FB6-422E-B7F2-9FBD2135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4F4CD-0F47-4FCC-BDB3-C70EAA8C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F4320-F291-4D1A-B4DE-8DFC45F9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7813A-677E-438F-95C7-BF929237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7FACE-54CD-4329-994B-86C465C9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9F0BE-1D97-4B1C-A5BD-C9617382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9CCBC-FD7A-4640-8CC2-CCA1F033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921B7-6288-4E67-A483-D57B6B40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AC80B-BD7D-4FF4-AE6F-F7D5F66B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FB15E-3AB0-4FB4-B207-5DE4AF46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12F5B-9839-4108-8C50-B6A43187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883-7445-498E-A3AB-4BEFE31F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0F45B-E22C-4FDB-9CE9-A1F04BAA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1A7AF-5E5E-498E-9252-5A90B2F6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B44CC-9D36-4131-95AA-3F7800C4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F70FD-3E03-4F7C-8FF1-D481B9E4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DA421-AF75-4097-85FD-AF2FB0F0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069D8-B5D3-4706-94BD-42CEF62A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28198-E98E-4DC3-BFED-E9337E90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16834-A02B-4547-B4E2-A71D316E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253C6-CF69-46AA-8148-D943D48F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055A2-E580-4844-A95D-A4AD9980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99F6-EE20-4F23-B6D4-8A0A770A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F75B8-2D56-4F2E-8C8A-CFAC584F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A7657-2CE4-4330-BA56-E4C07024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29CDF-861F-4F41-A763-6F5E1E4B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EA6E6-1933-4485-966E-382969E4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1F5A9-FB9E-48B6-8302-BA1EBA5F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5EE18-E47A-4BD7-B163-D57A413F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AC6BC-F3D9-4378-B318-432308EE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EC83D-73A6-482E-AABA-1099C9DB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6157B-4D85-4650-91D2-E8E9FB1A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389B6-8203-408D-874D-EA68A497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A4EC-4F12-476B-8C8E-B958BF4E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98F62-C7DC-4483-B00F-3FC2E2D3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131D7-40EF-484C-9008-568B396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1D4BC-5358-4888-9893-554BAD70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62F60-BDD9-4F5C-B556-2D1FC0D9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3E2D0-EC74-4B35-B938-FA141813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E7CD2-E2E8-41E0-A8C1-69240FB8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4083C-8F1D-4603-A98F-971497D4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406AE-5DED-4A4F-A4A8-2364D670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6681C-B7FF-40AD-AA17-70229E3F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46A37-D23D-430D-89BF-37A41B6D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0DC4-A546-4DC9-972D-1FF780E9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5190D-35E1-4390-81C4-BB09F47C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5C9D4-2362-407B-A738-D81A6DB0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D584A-07F0-42F4-87EC-7CFA4BA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9B4BF-EF4C-431F-ADE0-2D10D061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44B62-1EBA-456D-9E21-073C85C8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DDAA9-54F0-4A4D-82BE-A822166E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94326-8080-4116-96A1-1D9AD216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A2C25-95AC-4469-8750-36814576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CBE4A-B121-4BB9-B949-6830E81B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9BCFA-3C15-4795-B3D5-F11138A3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D84E-C96B-403D-9586-E2E97E1B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1B6BA-FC80-44E0-90C0-1F84BF1C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7B6C1-C3D5-4F3F-A445-52B0C54B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34B74-4C29-44CB-90DE-E332B564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3068E-647E-4200-8609-88E11E47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24272-331E-4250-BAE2-DB2DB383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FC6A8-58AA-424A-8B2B-877835E6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2DCE7-351B-4F38-AE96-DB19C7B0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DD66A-5DD7-4497-8FCB-4E174129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53FAC-829C-49CE-BC91-546B0E61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152BD-ADF0-4039-8DEC-BA798579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8B1A-D85E-4D43-ACF0-A599A18D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DD268-C4AE-4D8C-9507-2C6612F2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D85065-0C43-4CAF-9BAA-E9D739F3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19987A-DEAC-4B30-9055-8CD92B42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63C7A-7E5D-433D-A3CB-8D0B26D0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03B66-9816-492E-A1E4-AEFD5EF7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FC85D-545C-4B18-BA3F-F64FD18D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3AEF8-0286-47F5-AD43-39EA30E9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A53A9-7E04-45BE-812C-2E80C206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F091D-4C6E-4997-96D9-89DB9F80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93FD82-73D7-4FF7-9D27-9F058046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1509-0666-4AA6-9893-AD6FA7FE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D9E12-DCAF-4175-B9C9-11553B91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02569-DECE-4633-8E25-F84D231B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1267F-C9C7-41A1-A6DE-429F79AD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A1378-D93F-4526-AE9D-6BEFE670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25947-9658-44C7-A818-3AF3F6DD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CB080-AD58-43E7-9AC8-BFDEFE37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2F599D-2F21-4D4A-B6D4-691E6535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2E755-EA2A-439C-8B74-3F913D7E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F2CB0-0340-4782-B9AF-80328BC5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B9D41-DE02-4DDC-A058-8C0F5ED9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0AB1-0A00-4650-BB2E-FAB60AF4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70732-D039-452B-99E4-F524B497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A7AFF-7E15-4721-8E14-42DDC00A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6BFA1-654D-49B7-AE11-A1016376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CB9171-BAAF-4515-B1C2-8AAA0FA4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C2EB6-30F0-4698-8A5E-89C18088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C34F5-1738-4860-B952-FA0687D7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333F8-0369-4CC9-8BC7-DB664E6B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EE828-EE0F-44E8-99AF-6441E890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7F313-194C-41D9-99DC-1A8F1C6D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9926B2-B0CA-480B-8264-FFFA14CB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B32-FC42-447F-A65C-9D0492DA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1E8B-4C22-46D6-A6F0-4BEE17F4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05907-A865-435D-B643-A12D9B21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7D8085-A0C1-4AF4-BDF7-097FA8F6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3C61A8-D701-49B3-9E4F-88AC829C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37D909-A792-4A82-8BF8-804B9573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29FB0F-1592-41C3-AEC7-34C93A3B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EA143-866D-4D28-A721-62BB6AD8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B9FEA-8A6F-4051-8D25-04E3F062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6F10EF-B454-4DDC-8591-E91DD318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6DD7D3-187E-48ED-9414-3D171F44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017A72-3A8D-4540-9F62-9CB7F60D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3DB3-38E1-47FA-89E4-B08FBB25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E51687-BF7F-40FE-BAAC-CAA05D6A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C7866-8BF4-4E91-822E-43DA8C26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CD67B7-7BA5-438B-AE3B-293A5AA3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CFAEEE-9D4F-45A4-B825-10C31F5F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E0A7E-2C4D-4FCD-84F9-76F520E6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C94C1-3332-4202-BB62-120CD71A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3DA07-9D95-4851-B60B-F54879CA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F64D42-217F-4D1A-A0D0-5F756555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1731B2-984E-48C9-BA1B-584A357D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1871A-2B33-44E1-B457-1FE61764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DB74-F277-494B-8D24-1B077A2C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06A99-B6D0-42CA-A875-E987ED79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698561-3093-41CE-A634-45DA781C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D3FA1-64D2-4BBB-BF7E-B7EAC5EC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93A155-F2AD-47AB-9D78-B016C4E8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01C536-EECE-4863-B320-A31FA486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179AC-AB04-4654-BAB7-4E09B2FE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A7D97D-39E4-4C42-9B1B-5B020AA8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4E48C-2BB8-4194-B7C4-CFB39703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274C06-E066-4587-8CCC-431E1F46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9A1A2F-3F1A-483D-9B6E-A10CED69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4306-9F47-48DC-A765-95B9FE96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F884D8-68FB-4B19-A05A-98C39587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3A821-A242-4A73-AE33-B03BE4A8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B0A06-9537-49B5-8611-C347D5D6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38B5B6-17D4-48CF-9BDA-2E6E332D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F592FB-F44E-412E-A9FD-B9D61F60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41FD11-E722-4C05-AA84-2E60F17E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E46FFB-F2C9-4205-AFC8-DA71B87A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D7C7E1-7C6D-450A-A694-5704B2BA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ED91E-059B-4DC8-B897-58310B04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2E39D2-F5FB-4111-8CA9-3ABBFA42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4599-E05F-4513-A00E-7A6DE491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A6E79F-EE2C-4816-AF77-E5D55E52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639FD-D4A7-434F-8A40-366742FF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42B5D0-B93D-44E0-B280-8DC2C452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89153-3C80-4A21-8A54-49C5CEF6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AA4A97-B9B4-4D37-8F39-B0152F77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BFFFE2-3E85-4CC3-8CA9-DF6B2ADC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46944-63D4-4916-892B-5B30BD2D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BCF18C-C99C-4DCE-9F2C-4FB51DD5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F52A4-E960-4A55-BFE1-97F1D4A1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78E14-C626-4783-862E-78CBBA6F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D31C-C2EF-43CD-BC54-5BC2A26D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3F9265-AC3D-43DA-97F1-21A1C541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04C5F7-9ECA-4C2C-9E90-6EA1B03A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8590B1-3928-4AD1-A53B-69B15F64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8B9E5C-A78B-4020-9DDA-EF0FF7F1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2EA9C2-3AC1-4CCB-B6E7-BD39DB7C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4A6DD3-F736-48AA-BCFE-4332D302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DDFFAA-4B95-452C-B217-A8745EF1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7C8938-3747-448C-8557-C205CF41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E0C12B-DA41-47C1-AC22-833CA974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CA1C42-11F1-4EB9-A2CB-DB0A8AC8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2046-7EDD-4ACA-850D-CD14D4B5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32C118-FA1B-4684-A540-DC44FC26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857B00-0E7C-4EA4-95FA-D563071E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E2EB57-A5E1-430A-B0FD-1FF81744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BE7B12-1B7B-4206-87AA-F1749028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0049F3-224E-4476-AA29-6166A5B4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D94A-9E13-41FE-8D57-DE115E40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F36B3-E454-470C-B242-A406C7C2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AE2C4-92EE-4F9B-AFDF-A222453A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DD0-351A-48AE-A81F-23614F7B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9D05B-15C6-430C-8BA9-7EE89E9E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50F7-80F5-468A-986C-BF1A37A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FF2A-3965-4940-94FB-751902D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F363-8D87-4174-8D22-CBB018F0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9EA5-D41D-4922-9769-E4013BE7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D1D3-2261-4A6F-85DA-9284351F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A593A-DCC8-45DE-A4E5-3F16671C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1D7A-065E-497C-806E-0E1C4FC6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94C1-8BBC-44EF-8767-259E85C9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1895D-8C1B-4B3F-9264-D8BA9E64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D82-B6E6-4789-9B97-94EC3ADC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8A22-62EC-4302-9698-A27120B2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0BE6-A451-4664-A981-6CB6F761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2F96D-8A1A-41B6-8A23-C5AE87EE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53EE-1EFF-403A-885A-EC8186B9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E35F6-3AE1-42CB-AF84-1F330EB1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CC0EE-002F-4312-B07D-06D1D471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9772-626B-4D0F-9397-76BCEE03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B312-B907-44BC-BE11-97F718A5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0A77E-1A0B-48F7-B37D-ADD546A2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F9BA3-5013-4F8D-8785-6F4EF10A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337-201B-4E05-91FF-DD427E7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507ED-6AFE-4550-B6E1-E0AE8195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31720-CD39-4E77-9F0D-69067F81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0E357-7A9C-49ED-9C7F-50FB0DAE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4E100-E447-434A-8353-A7A02F50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BCEA8-9ACB-409B-A84C-6C1EA8A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9024-B299-4C02-9812-38823DD9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8CB77-AE9E-494E-90F5-0D38D90D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98248-4911-498D-AC07-98680DE5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3E1C0-3546-4CD8-B016-0FCE3FC4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009FB-F586-4EC2-B922-1F47AF37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86D-2790-408E-B4FD-9889BD7B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19A7C-5E92-4D9C-982C-7BDB4C91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08374-FD81-4471-BEF1-D3CF3789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69B21-BD3A-435B-83CF-D977A4DD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D91CE-FD34-40CC-B6C2-797736B6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EEC52-6A13-4BC9-B9A1-71CB9701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7D6E0-32BF-41E8-9353-1FC2FFCF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D3AA4-317B-4FC3-9A75-60002951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31DF8-9495-4738-9D49-3AC50D5D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8E42-10E5-4B02-B82F-40BE511D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A7DD-631B-4972-AA32-601C4BEF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427-572B-47FD-9D79-5308C893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E7EB5-5EFC-4A97-91C2-77DBB512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03E39-AD8B-48FD-8252-64B0BFF9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E8A59-A851-4790-B2F8-417CB40E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9BFB0-C405-41CD-ADC3-E47AA52B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53BFB-3EA1-4FB1-9B59-528E006E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76D39-3215-44AE-8D5F-A836D826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1F83F-FB92-4807-8BDD-549B1E73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E5EB0-C5A2-4BFD-95CA-B216D355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25636-DD55-404D-BB6C-AF42A28B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84045-5FB2-4D67-BB7B-39D3CC45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4CD-E0B4-425A-8C37-9B679B01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8D94E-1B80-4709-A617-CE4BCFFB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85FE3-8939-47E4-B5DD-72D8CFFA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00EFA-CAD5-4CAC-A69B-F6C9B8B6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48BCA-F2F2-4728-849C-FACE72B5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CAF16-8146-45A8-A7C5-4D156703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DDC6B-DED3-47AD-96B1-B322B572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52D8F-2FF6-4E64-B4E1-0B0E5207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FFB01-293E-487C-9A61-1F600507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588E8-1317-4F24-8FA9-0C062EFD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54598-DC2B-448F-A57F-48F61C8D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0B5-A85E-4E5B-84F5-B6A433AC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70FBF-27B8-46B3-BC0A-F4EE6A05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641F9-7D8C-47A0-8129-0668C9F2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F8344-4823-48D8-BF81-739F5710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F8CA7-6580-45D0-A4C0-2F0BE057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926C0-98FE-405D-9DB3-04657271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D9306-0F3F-4D4D-8A96-4D65F44B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096D5-F1F9-4696-B99C-B055DDAF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EBB02-DD82-4090-A764-625372E2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8CB34-0AD6-4A29-ADCD-AF19F2BA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6CADA-8347-434E-9745-C9BBF7A1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ECF5-5455-4088-9280-CC41E4EAF2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AB23-4C30-4CB8-83AB-EFD9E48A5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3F37-3114-4AC8-8BF8-9ADDC25B63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B5EE-5C01-44CB-B352-AE65CBCE2F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DF09-DDB3-4BAB-A508-D5901EF6A9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C8AB-8A82-4C8B-9FC6-1BC23D1E9B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DAF4-C33D-4709-AEF6-9C28AA26E6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99B5-0020-4D87-9561-1183A074DD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3A52-5FA7-4E6B-990A-324E5051C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D5A1-93B8-4677-A532-0D4600DEA5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A93E-1ACF-4FC9-A9D5-2C3698EE22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BD6A-B3E1-44CB-8FA9-0E01877FBF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13FF-1208-4A70-9F2C-34E634A2AB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FF24-A387-4A06-A0D3-D60B05DA94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F1C6-8F90-46CC-A502-607AF13AB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8D3E-91B7-475B-AB0F-94D0598EB1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8DE8-B5DA-42A4-AAAF-64E25DEC1A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AB9A-9417-4409-98F8-B35BB87056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86B7-115B-4783-8343-C6B588BE4C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11BE-74D6-4D59-993F-DCF5D29B49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9AD6-4C98-4AF7-86D8-01B0EAB9FE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952C-96C1-4489-9669-A2DCDD3386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63AC-5C07-423E-9240-79AE749A2C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2073-3567-4ADC-9355-E8D568399A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425B-BA31-42A4-9E2C-40576359E9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569C-A84B-4B3A-8DEE-2DA44771A5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9B96-A7FF-4269-9FEC-DF2F9E9E25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3468-5234-46EC-B861-AC96C9F2E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3FB0-EADD-4D30-991E-E6313D59B6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ED72-673F-4E8E-B69D-906248B0A7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A350-E41D-4869-AB85-9958C0D80E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C326-F71D-4CD4-A448-D4062D6199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88E-1D30-4DFB-B9DD-D1E8A141CA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8079-AA80-48E8-82FD-E4049DFDD1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A4EA-071C-4DDB-86CF-761E26DF1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7E63-139C-4492-8ECB-A4F7F2E280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D1FB-1B65-4CEC-AE55-21B7C7F45F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A8DE-A625-4521-B566-C95B0ED473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DF80-734F-44D8-8437-C501142300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CFF8-34D6-471E-A764-C690E8D48E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7613-97BA-48D2-811E-E85CD8AFB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405160" y="3057480"/>
            <a:ext cx="43336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119160" y="712800"/>
            <a:ext cx="8905680" cy="602928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147" descr=""/>
          <p:cNvPicPr/>
          <p:nvPr/>
        </p:nvPicPr>
        <p:blipFill>
          <a:blip r:embed="rId2"/>
          <a:stretch/>
        </p:blipFill>
        <p:spPr>
          <a:xfrm>
            <a:off x="2152800" y="1930320"/>
            <a:ext cx="1104840" cy="3524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1504800" y="242100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2916360" y="2421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150" descr=""/>
          <p:cNvPicPr/>
          <p:nvPr/>
        </p:nvPicPr>
        <p:blipFill>
          <a:blip r:embed="rId5"/>
          <a:stretch/>
        </p:blipFill>
        <p:spPr>
          <a:xfrm>
            <a:off x="3736800" y="1916280"/>
            <a:ext cx="1105200" cy="3520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3967200" y="2421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4643280" y="242100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6154" descr=""/>
          <p:cNvPicPr/>
          <p:nvPr/>
        </p:nvPicPr>
        <p:blipFill>
          <a:blip r:embed="rId8"/>
          <a:stretch/>
        </p:blipFill>
        <p:spPr>
          <a:xfrm>
            <a:off x="5321160" y="1959120"/>
            <a:ext cx="1352520" cy="3236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5681520" y="242100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6357960" y="2421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6746760" y="2363760"/>
            <a:ext cx="2397240" cy="320760"/>
          </a:xfrm>
          <a:prstGeom prst="rect">
            <a:avLst/>
          </a:prstGeom>
          <a:ln w="0">
            <a:noFill/>
          </a:ln>
        </p:spPr>
      </p:pic>
      <p:pic>
        <p:nvPicPr>
          <p:cNvPr id="974" name="图片 6158" descr=""/>
          <p:cNvPicPr/>
          <p:nvPr/>
        </p:nvPicPr>
        <p:blipFill>
          <a:blip r:embed="rId12"/>
          <a:stretch/>
        </p:blipFill>
        <p:spPr>
          <a:xfrm>
            <a:off x="1720800" y="4278240"/>
            <a:ext cx="1114560" cy="466920"/>
          </a:xfrm>
          <a:prstGeom prst="rect">
            <a:avLst/>
          </a:prstGeom>
          <a:ln w="0">
            <a:noFill/>
          </a:ln>
        </p:spPr>
      </p:pic>
      <p:pic>
        <p:nvPicPr>
          <p:cNvPr id="975" name="图片 6159" descr=""/>
          <p:cNvPicPr/>
          <p:nvPr/>
        </p:nvPicPr>
        <p:blipFill>
          <a:blip r:embed="rId13"/>
          <a:stretch/>
        </p:blipFill>
        <p:spPr>
          <a:xfrm>
            <a:off x="5694480" y="4292640"/>
            <a:ext cx="1114200" cy="46656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6160" descr=""/>
          <p:cNvPicPr/>
          <p:nvPr/>
        </p:nvPicPr>
        <p:blipFill>
          <a:blip r:embed="rId14"/>
          <a:stretch/>
        </p:blipFill>
        <p:spPr>
          <a:xfrm>
            <a:off x="1735200" y="6237360"/>
            <a:ext cx="1114200" cy="466560"/>
          </a:xfrm>
          <a:prstGeom prst="rect">
            <a:avLst/>
          </a:prstGeom>
          <a:ln w="0">
            <a:noFill/>
          </a:ln>
        </p:spPr>
      </p:pic>
      <p:pic>
        <p:nvPicPr>
          <p:cNvPr id="977" name="图片 6161" descr=""/>
          <p:cNvPicPr/>
          <p:nvPr/>
        </p:nvPicPr>
        <p:blipFill>
          <a:blip r:embed="rId15"/>
          <a:stretch/>
        </p:blipFill>
        <p:spPr>
          <a:xfrm>
            <a:off x="5695920" y="6235560"/>
            <a:ext cx="11145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7169" descr=""/>
          <p:cNvPicPr/>
          <p:nvPr/>
        </p:nvPicPr>
        <p:blipFill>
          <a:blip r:embed="rId1"/>
          <a:stretch/>
        </p:blipFill>
        <p:spPr>
          <a:xfrm>
            <a:off x="485640" y="276120"/>
            <a:ext cx="8172720" cy="63057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2"/>
          <a:stretch/>
        </p:blipFill>
        <p:spPr>
          <a:xfrm>
            <a:off x="1749600" y="8222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3"/>
          <a:stretch/>
        </p:blipFill>
        <p:spPr>
          <a:xfrm>
            <a:off x="3895560" y="82224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6012000" y="8222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5"/>
          <a:stretch/>
        </p:blipFill>
        <p:spPr>
          <a:xfrm>
            <a:off x="8158320" y="8082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6"/>
          <a:stretch/>
        </p:blipFill>
        <p:spPr>
          <a:xfrm>
            <a:off x="1749600" y="12398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7"/>
          <a:stretch/>
        </p:blipFill>
        <p:spPr>
          <a:xfrm>
            <a:off x="3865680" y="12254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8"/>
          <a:stretch/>
        </p:blipFill>
        <p:spPr>
          <a:xfrm>
            <a:off x="6012000" y="12398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9"/>
          <a:stretch/>
        </p:blipFill>
        <p:spPr>
          <a:xfrm>
            <a:off x="8158320" y="12254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7178" descr=""/>
          <p:cNvPicPr/>
          <p:nvPr/>
        </p:nvPicPr>
        <p:blipFill>
          <a:blip r:embed="rId10"/>
          <a:stretch/>
        </p:blipFill>
        <p:spPr>
          <a:xfrm>
            <a:off x="1865160" y="3616200"/>
            <a:ext cx="1114560" cy="46692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7179" descr=""/>
          <p:cNvPicPr/>
          <p:nvPr/>
        </p:nvPicPr>
        <p:blipFill>
          <a:blip r:embed="rId11"/>
          <a:stretch/>
        </p:blipFill>
        <p:spPr>
          <a:xfrm>
            <a:off x="6213600" y="3616200"/>
            <a:ext cx="1114200" cy="466920"/>
          </a:xfrm>
          <a:prstGeom prst="rect">
            <a:avLst/>
          </a:prstGeom>
          <a:ln w="0">
            <a:noFill/>
          </a:ln>
        </p:spPr>
      </p:pic>
      <p:pic>
        <p:nvPicPr>
          <p:cNvPr id="989" name="图片 7180" descr=""/>
          <p:cNvPicPr/>
          <p:nvPr/>
        </p:nvPicPr>
        <p:blipFill>
          <a:blip r:embed="rId12"/>
          <a:stretch/>
        </p:blipFill>
        <p:spPr>
          <a:xfrm>
            <a:off x="1490760" y="6064200"/>
            <a:ext cx="1733400" cy="47628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7181" descr=""/>
          <p:cNvPicPr/>
          <p:nvPr/>
        </p:nvPicPr>
        <p:blipFill>
          <a:blip r:embed="rId13"/>
          <a:stretch/>
        </p:blipFill>
        <p:spPr>
          <a:xfrm>
            <a:off x="5810400" y="6107040"/>
            <a:ext cx="1495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00:4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